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B9DB34C-EC22-46DE-B8B1-F508B3410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19C64D-95FE-4207-A7B9-21C23EF6C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6E72EC-87CF-4335-B661-D605848F8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3D67CE-2345-409E-BB24-1410491C9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D384E0-AC20-4AD1-82E4-C31E2B2CB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EE4925-1B5D-455F-952E-680BC34D8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CD55E8-740F-4CFD-9B4A-C2BA3E1A9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AB1FA9-A30A-4799-A146-06A5A506A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CD89-83E3-414C-B6EC-AC4B35C6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4EB-CD8F-445E-8C78-8D777410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534-832B-4CFB-91D2-837B6F78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0387-4DB5-4DD8-9000-7F513755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610-9A89-4CAC-9E2C-6876262C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480-147F-4A87-A8A6-8575E3FC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384-18FE-496C-B446-D7D4C381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E6A3-55F7-4ADE-BC44-717CA664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5EB-E202-4DCE-BF1D-76CF8CAB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8EB-0863-4FBC-9221-C20B2DEE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9BF0-4D25-44C3-926E-4C2E7857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81CF-DD10-4F41-861F-2EAD01A2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CBC8-ACE1-427B-84B6-ABEB4E9A33A9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ray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e Alexander (US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nji Fukuto (Japa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VTS on e-Navigation Portrayal Guidelines (output/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943600" y="4816440"/>
            <a:ext cx="3200400" cy="2041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and Updated Work Programme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y elements as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ask to manage the IALA domain in IHO S-99 and S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ling numbers/attend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upport for disturbing Committe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4 participants was manageable in ple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not an issue in W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status q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4 registered attende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1 new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 the 2010-2014 work program as agreed by Counc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out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 output documents for approval of Counc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raft Guid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draft Information No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liaison notes to other organizations and IALA 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an e-Navigation Mindset – Nick Ward for Andy Nor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wegian test results on S-100 – Jarle Ha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ct EfficienSea Update – Thomas Christensen (DaM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SEAS Proposal for a North Sea e-Navigation Test Bed – Nick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ALA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CG on e-NAV (output/2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e-Navigation FAQs (output/2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5607000"/>
            <a:ext cx="1828800" cy="12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W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Douglas (Scot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Recommendation on IALA Strategy for Maintaining Racon Service Capability (output/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lanned Output proposal to MSC on Multi-system Shipborne Rcvrs (output/1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181480" y="4952880"/>
            <a:ext cx="39625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AIS"/>
          <p:cNvPicPr/>
          <p:nvPr/>
        </p:nvPicPr>
        <p:blipFill>
          <a:blip r:embed="rId1"/>
          <a:stretch/>
        </p:blipFill>
        <p:spPr>
          <a:xfrm>
            <a:off x="6400800" y="5451480"/>
            <a:ext cx="2743200" cy="1406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rge Arroyo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ised IALA Rec. A-124 with Append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utputs/6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TU-R on proposed revision of M.1371-4  (output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EC on ITU M.1371-4 (output/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ANM on minor changes to O-139 (output/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unications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RelationshipMode_revised"/>
          <p:cNvPicPr/>
          <p:nvPr/>
        </p:nvPicPr>
        <p:blipFill>
          <a:blip r:embed="rId1"/>
          <a:stretch/>
        </p:blipFill>
        <p:spPr>
          <a:xfrm>
            <a:off x="6705720" y="5089680"/>
            <a:ext cx="2438280" cy="1768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Blackhurst (INMARSAT) (apologi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note on Essential Communications Elements of e-Navigation (output/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ITU-R WP5B on Spectrum Requirements for e-Navigation (output/1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RTCM (output/2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e Technical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paper on IALA Participation in IHO Geospatial Information Registry (output/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ting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ain Ow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1"/>
          <p:cNvGraphicFramePr/>
          <p:nvPr/>
        </p:nvGraphicFramePr>
        <p:xfrm>
          <a:off x="5867280" y="4807080"/>
          <a:ext cx="315936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807080"/>
                    <a:ext cx="3159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1-10-05T11:35:53Z</dcterms:modified>
  <cp:revision>105</cp:revision>
  <dc:subject/>
  <dc:title>PowerPoint Presentation</dc:title>
</cp:coreProperties>
</file>